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430-42B9-4410-A77E-99B0D571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2920" y="376992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3A8-12B9-4097-ACD3-6CA21CC0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380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3D0-2ABA-4032-B48C-9F3F8F16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5492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9728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292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5492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9728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AD0-B085-42DA-8B60-D842F5F5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F614-C660-48D0-9D06-09BF7A26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2BB2-16E2-4556-BEC3-4F9F7108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4A78-7C44-45AD-BADA-5597247F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EB19-C864-4215-95B4-3ADCD634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75EA-453F-4407-A730-E2D624B8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920" y="151920"/>
            <a:ext cx="7594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75FE-F077-4565-BE33-C685A351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AEE5-3F1C-4D15-8B7C-55EFEBE1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A91-CACA-4A06-8A47-8B4A7237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380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8799-B8B5-4F4E-938E-85846D77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28DA-C0B7-49B0-953C-1BDCA9B4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2920" y="376992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56DC-40C6-4D70-8958-F66565FE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2380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EF47-409A-4D9B-94E3-F30EA0B6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5492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9728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292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5492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9728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791B-E04F-4510-9BA1-2F07DDEB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99B-C441-4CBD-9244-DAF77F35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26C-1EBE-4BBC-9782-D104A066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DF4-6667-48FD-B91C-EF8EDF4F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2920" y="151920"/>
            <a:ext cx="7594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748-EF5E-48FE-B1B1-DCE5936C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40A-BBAE-4033-BBD9-FBBFA5FD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380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2B5F-7BC3-4A88-AF2B-DB2CC330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F32-8AED-4B1A-9F6B-AA8F1E6E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1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4758-A57B-4924-AF26-6EE993425FA5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3200" y="6481800"/>
            <a:ext cx="5486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enQ Confidential (13/1/2006) </a:t>
            </a:r>
            <a:r>
              <a:rPr b="1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301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7ABC-8AB8-475E-81CE-63B03BD26144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200" y="6481800"/>
            <a:ext cx="5486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enQ Confidential (13/1/2006) </a:t>
            </a:r>
            <a:r>
              <a:rPr b="1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0520" y="2349000"/>
            <a:ext cx="69134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Management Update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anuary 27th, 2006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rand launch – translate the positive recognition from the outside to the ins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15800" y="1360080"/>
            <a:ext cx="9097920" cy="39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First time two press events were held simultaneously on two continents: Berlin/Europe &amp; Beijing/Asia, with live-streaming for global audience internally and externall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With an estimated number of approx. 1.000 clippings in all major newspapers, (e.g. Wall Street Journal, Financial Times etc.) we could reach 50 to 100 Mio. people worldwid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edia show positive feedback – so far, no negative coverage has been generated from the launch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New products receive positive feedback and are listed from all major operato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"/>
          <p:cNvSpPr/>
          <p:nvPr/>
        </p:nvSpPr>
        <p:spPr>
          <a:xfrm>
            <a:off x="488880" y="5516640"/>
            <a:ext cx="90979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1b15"/>
                </a:solidFill>
                <a:latin typeface="Minion"/>
                <a:ea typeface="文鼎中黑"/>
              </a:rPr>
              <a:t>Instead of focusing on negative messages, people should be proud of the new brand and the products we have laun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Minion"/>
              </a:rPr>
              <a:t>Let’s Enterprise, Again !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1" name=""/>
          <p:cNvSpPr/>
          <p:nvPr/>
        </p:nvSpPr>
        <p:spPr>
          <a:xfrm>
            <a:off x="212868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2920" y="1203120"/>
            <a:ext cx="93643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0" lang="zh-TW" sz="3000" spc="-1" strike="noStrike">
                <a:solidFill>
                  <a:srgbClr val="3a0e66"/>
                </a:solidFill>
                <a:latin typeface="Minion"/>
              </a:rPr>
              <a:t>We are not a charity” - we are hired to make profit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  <a:p>
            <a:pPr marL="308520" indent="-30852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a0e66"/>
                </a:solidFill>
                <a:latin typeface="Minion"/>
              </a:rPr>
              <a:t>Seek success, create a profit zone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  <a:p>
            <a:pPr marL="308520" indent="-30852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All our efforts on customers and business opportunity.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  <a:p>
            <a:pPr marL="308520" indent="-30852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a0e66"/>
                </a:solidFill>
                <a:latin typeface="Minion"/>
              </a:rPr>
              <a:t>No excuses, no blaming, no politics. Just do it!!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  <a:p>
            <a:pPr marL="308520" indent="-30852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Come together and work as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team,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culture,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mind,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direction and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system for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common goal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  <a:p>
            <a:pPr marL="308520" indent="-30852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Customers won‘t wait… and competitors won‘t stand still… - so just do it right away… don‘t wait… move fast!</a:t>
            </a:r>
            <a:br>
              <a:rPr sz="3000"/>
            </a:br>
            <a:r>
              <a:rPr b="0" lang="en-US" sz="3000" spc="-1" strike="noStrike">
                <a:solidFill>
                  <a:srgbClr val="fd1b15"/>
                </a:solidFill>
                <a:latin typeface="Minion"/>
              </a:rPr>
              <a:t>Go! Go! Go!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44520" y="549360"/>
            <a:ext cx="4176720" cy="55436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5543640"/>
              <a:gd name="textAreaBottom" fmla="*/ 5543640 h 55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170320" y="549360"/>
            <a:ext cx="4462560" cy="5543640"/>
          </a:xfrm>
          <a:custGeom>
            <a:avLst/>
            <a:gdLst>
              <a:gd name="textAreaLeft" fmla="*/ 360 w 4462560"/>
              <a:gd name="textAreaRight" fmla="*/ 4463280 w 4462560"/>
              <a:gd name="textAreaTop" fmla="*/ 0 h 5543640"/>
              <a:gd name="textAreaBottom" fmla="*/ 5543640 h 55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7960" y="333360"/>
            <a:ext cx="2141640" cy="59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B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E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D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440" y="333360"/>
            <a:ext cx="2141640" cy="59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B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E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D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15760" y="1268280"/>
            <a:ext cx="114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a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5360" y="126828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as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21080" y="3252960"/>
            <a:ext cx="208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xecu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33680" y="3252960"/>
            <a:ext cx="281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xcell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06040" y="5197320"/>
            <a:ext cx="14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51760" y="51973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eta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1960" y="2349360"/>
            <a:ext cx="2087640" cy="201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32160" y="2308320"/>
            <a:ext cx="12970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2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Eike Boettner</cp:lastModifiedBy>
  <dcterms:modified xsi:type="dcterms:W3CDTF">2006-01-27T14:44:05Z</dcterms:modified>
  <cp:revision>108</cp:revision>
  <dc:subject/>
  <dc:title>PowerPoint 簡報</dc:title>
</cp:coreProperties>
</file>